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C4C-0224-4F4F-8D5D-ADCC5AD6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8B4B-172C-4ED2-BEA3-0E80AD8D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7A3-91AB-45D1-9A8F-8282080B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9F8-0042-4AB1-BB68-35FCEFE5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23D3-E52F-4403-AD3B-AD627362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657F-89BC-4E4E-9F26-E6114E8A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4B0D-EA1B-4825-AC66-FABAE751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E142-0D54-4B70-8C07-EE584804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0CF2-0780-4991-AAFD-C68C5E52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76FC-3127-4C79-A9F9-4A2923E7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7282-A8B6-433F-AC59-07B8B85B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50A-F48F-47A5-BDE6-3A697D98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EE12-831C-4667-BF85-58FBAF76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20A3-1D50-4946-94F0-0FF5532B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8451-4149-4C82-B11F-8C64B0A8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DB91-5C3F-42EF-9280-66BD0FAB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66F0-CAFB-4EAC-9B9C-31248B1B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F9D-1667-4D46-920A-DAEB5B67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9570-A8B1-44B6-95B8-A502397B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251-1CB0-4BC8-8159-A6A2CE3C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B9F-4951-4976-BF9E-4962A4CF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6B2-0215-4D15-9DD2-8F66CA13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698-05E9-4494-902C-D2E8C30C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313-5F38-4E9B-B16E-CB35FD78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D9C7-36CC-4909-90F1-AA09ACAF82F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EBF5-3623-400F-BCCD-38E37D367F0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4514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44956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3652920"/>
            <a:ext cx="83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52578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4191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fore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 1500 - 0 = 15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00 / 100 x 1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 x 1°C = 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671480"/>
            <a:ext cx="2895480" cy="1620000"/>
          </a:xfrm>
          <a:prstGeom prst="rect">
            <a:avLst/>
          </a:prstGeom>
          <a:solidFill>
            <a:srgbClr val="eaeaea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ter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00 - 1500 = 12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00 / 100 x 0.6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 x 0.6°C = 7.2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205740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.2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251460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mperature at Summi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  20 - (15 + 7.2) = 22.2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451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4956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3652920"/>
            <a:ext cx="83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52578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4191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fore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 1500 - 0 = 15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00 / 100 x 1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 x 1°C = 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1671480"/>
            <a:ext cx="2895480" cy="1620000"/>
          </a:xfrm>
          <a:prstGeom prst="rect">
            <a:avLst/>
          </a:prstGeom>
          <a:solidFill>
            <a:srgbClr val="eaeaea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ter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00 - 1500 = 12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00 / 100 x 0.6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 x 0.6°C = 7.2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205740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.2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251460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mperature at Summi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  20 - (15 + 7.2) = 22.2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29600" y="405288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1.8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1373040"/>
            <a:ext cx="8534520" cy="507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4500" spc="-1" strike="noStrike">
                <a:solidFill>
                  <a:srgbClr val="ffffcc"/>
                </a:solidFill>
                <a:latin typeface="Palatino Linotype"/>
              </a:rPr>
              <a:t>Calculating Temperature Change in a Rising Air Mass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3659040"/>
            <a:ext cx="3429000" cy="228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84836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451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52578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451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52578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191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fore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 1500 - 0 =15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00 / 100 x 1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 x 1°C = 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4514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3652920"/>
            <a:ext cx="83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52578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191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fore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 1500 - 0 =15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00 / 100 x 1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 x 1°C = 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451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44956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3652920"/>
            <a:ext cx="83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4191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fore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 1500 - 0 =15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00 / 100 x 1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 x 1°C = 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2578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4514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44956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652920"/>
            <a:ext cx="83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52578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4191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fore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 1500 - 0 = 15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00 / 100 x 1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 x 1°C = 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67148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ter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00 - 1500 = 12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00 / 100 x 0.6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 x 0.6°C = 7.2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451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44956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3652920"/>
            <a:ext cx="83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525780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41911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fore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 1500 - 0 = 15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00 / 100 x 1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 x 1°C = 15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1671480"/>
            <a:ext cx="2895480" cy="1620000"/>
          </a:xfrm>
          <a:prstGeom prst="rect">
            <a:avLst/>
          </a:prstGeom>
          <a:solidFill>
            <a:srgbClr val="eaeaea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ter Condens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00 - 1500 = 1200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00 / 100 x 0.6°C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 x 0.6°C = 7.2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251460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mperature at Summi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  20 - (15 + 7.2) = 22.2°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1:31:29Z</dcterms:created>
  <dc:creator>Customer</dc:creator>
  <dc:description/>
  <dc:language>en-US</dc:language>
  <cp:lastModifiedBy>OCDSB User</cp:lastModifiedBy>
  <dcterms:modified xsi:type="dcterms:W3CDTF">2012-04-17T17:42:28Z</dcterms:modified>
  <cp:revision>22</cp:revision>
  <dc:subject/>
  <dc:title>Slide 1</dc:title>
</cp:coreProperties>
</file>